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0E9-D46A-4AEA-8C2C-EDF9D3C8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14D-45FF-4482-8EB6-7619ED92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162-C095-461A-8DA6-E5A227B5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D44-2808-492B-869B-4C584734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FBD-DEF4-4DD1-934F-114DAD93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D45-BAF2-42F7-9F89-47CB64C9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06D-FAEB-495B-ADCD-A55C1D52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852-12F2-438B-ACFC-EE6A1B35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181-9B03-4308-8E6E-02DA3496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984-84C2-4203-9E0D-2860912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A85-0E6B-47BA-81ED-F420AC20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AA1-FDCF-4C2E-94F6-48596270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659-759D-4C27-8307-A4989C51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file:///019.mpg" TargetMode="External"/><Relationship Id="rId6" Type="http://schemas.openxmlformats.org/officeDocument/2006/relationships/hyperlink" Target="file:///027.mpg" TargetMode="External"/><Relationship Id="rId7" Type="http://schemas.openxmlformats.org/officeDocument/2006/relationships/hyperlink" Target="file:///059.mpg" TargetMode="External"/><Relationship Id="rId8" Type="http://schemas.openxmlformats.org/officeDocument/2006/relationships/hyperlink" Target="file:///032.mpg" TargetMode="External"/><Relationship Id="rId9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file:///017.mpg" TargetMode="External"/><Relationship Id="rId5" Type="http://schemas.openxmlformats.org/officeDocument/2006/relationships/hyperlink" Target="file:///Tank-EO.mpg" TargetMode="External"/><Relationship Id="rId6" Type="http://schemas.openxmlformats.org/officeDocument/2006/relationships/hyperlink" Target="file:///Tank-EO.mpg" TargetMode="External"/><Relationship Id="rId7" Type="http://schemas.openxmlformats.org/officeDocument/2006/relationships/hyperlink" Target="file:///Vehicles-people-EO.mpg" TargetMode="External"/><Relationship Id="rId8" Type="http://schemas.openxmlformats.org/officeDocument/2006/relationships/hyperlink" Target="file:///Vehicles-people-EO.mpg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E576 Computer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ject: Tr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/02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1640"/>
            <a:ext cx="83822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 of Tracking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itialize locations of objects to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SIFT features for each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update feature descriptors as video progr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SIFT features in a limited region near where object was found in previous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ier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33530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320832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35304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82680" y="3618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ideo 019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49920" y="3672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ideo 027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6240" y="62485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ideo 059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70520" y="63244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Video 032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Difficult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335304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60840" y="35812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ideo 017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480" y="624852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ideo Tank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O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10560" y="624852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ideo Vehicles-people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O.m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Algorithm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select initial object locations in first fr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 SIFT features for each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calibration counter to 30 for each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rough each frame in the sequenc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rough each object we are tracking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 and match SIFT features for current object looking only within padded region around where it was last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o matches were found)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calibration counter to zero for current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d the previous location of the object by the padding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current object's location by drawing a box around all the detected features in the current fr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recalibration counter for current object by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recalibration counter &lt; 1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nalyze the SIFT features for the current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bc</cp:lastModifiedBy>
  <dcterms:modified xsi:type="dcterms:W3CDTF">2006-06-01T18:31:2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